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378-9853-4C1C-835F-78D33662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4A3-53E1-43D7-A028-09A061AA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050B9-895C-4190-BA7A-FD3A1B9C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4E90A-5629-475E-8FEF-2BE53F87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E6068-5B0C-46B8-B4B2-2AE486A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2C664-F005-499B-B5A8-2BD84FD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15806-A734-4FA5-BEE4-B25993BD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A6E51-6603-4AB0-A5FB-BC2393EE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A2DB8-E22F-43AB-B2E8-CA222323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A18C7-D37A-49DE-8016-788891F0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14D7A-4E4F-4FF0-9C33-16CF8A4A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2927C-C0A0-4456-9F23-F252B26A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735-94D9-424A-B68D-A2D311F4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73155-FC67-4F50-85B2-2600D98C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63CAF-8C41-43DB-BA35-55B47040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E42FE-3479-4682-933E-AC069313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F71F0-354C-464A-BD17-9CF3B02C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2EB1C-E36B-4113-ABB1-FC6042EF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EA290-35C9-48D7-8693-4CEFA8DB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9AB4A-70DC-40AF-8C60-DAB148F6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9BE8E-BA91-4FE0-AE47-DCAD11B1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C786C-BAE8-4EAD-994F-1846942D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921A4-7D6A-49D6-850E-8E71985E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859-0B95-4F42-BC4A-BFCDA666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77DBE-03D3-442E-8D6A-2BBD53F1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68D3E-9BA6-4352-BB0D-FC73C211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E2653-7422-4DDD-A570-0A07135B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96A1F-B6EF-4D7A-AF92-2A5C3930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9BF91-C33D-4971-B700-B9C4AB39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185C4-C245-43CB-BA5E-3AD6A7AF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B5953-DE8A-4748-A300-B3E34595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18340-5EA1-4F63-AD3C-7741CEA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EFFE9-81C8-4D65-938E-7D91AF9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3EEB0-ED62-424A-8232-81D66C51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DDE43-FC5F-465F-924D-6519E139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1B3B0-3FBD-4BFF-B652-A271A440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1C713-CE35-428D-A033-F233FE05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E356E-369B-4FA7-979F-41181094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647C05-BF65-430F-BC77-7AE72A53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64902A-F0F2-43DF-ABCF-BCFCC90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6930E0-D547-418F-99D6-4A3FD761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93EBC7-4404-4FB3-8D4F-84174FC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07EF3E-7244-413E-8AED-BE765CF4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800969-4A5F-434D-8D7C-8D46B810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720D72-F78F-4CE4-BBD2-3674B64A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C665-AECC-4AE0-8361-9086E295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49878E-DC9F-4378-B15E-D5B8C396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A400C5-67DD-4D18-9441-4AD34A1D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958ECD-D482-4A21-A2CA-83038DA1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1B75D5-374E-4DFD-AD41-D4E34DCF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C43C7F-2CFF-4531-A2C8-5DB5D826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72B56-5E11-4948-86C1-3630C440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E8747-A791-4B6D-9F6E-2F3974F3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C17C2-E2EC-4B92-9ED4-AD07FCB4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8D21D-9B79-4699-95EF-FBF280B2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BD659-CE41-4CEF-8DFC-F4EA3DD6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190-BF10-4B58-B416-545BF320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62F99-138C-418B-8BE1-78CD6FA2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51EDB-D32C-4FA4-A926-91244E14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958BB-EFD4-486B-8409-792C1BCA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D95FC-E912-4221-B5DC-2BB99B38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0BCA-6647-4C63-B63D-8396EC3C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D2B9-DF87-492C-A125-66C912F6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F256-04A1-4702-859F-C07A8A8C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3389-1C08-470A-9191-C7094468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A3E78-8935-4B63-BB57-F90A009F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F726-5E7B-4C6D-824B-02AFFDEC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76A-B9DF-4D2F-A5C9-2AFB147F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CAAC-3DC6-437A-8D0F-2AF66082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7C2E-05F7-4160-B5AB-91ACFCB6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0F1A-0FCC-49D8-B444-3AC1EB75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E70FB-FB33-48BC-AEDC-D8B7E1F1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549AA-1F13-4B14-9DED-65E442A2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B26E-D4DE-4C40-87EF-55814286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C896-3E3C-418A-9B7D-4F207125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CE967-98AD-42AB-9D59-82AF78F8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846E-DD86-430E-A3C9-D825DB7A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4ABA-EE4E-4BA2-903A-5560CE54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94E-69FF-4474-9F9E-34D7F88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5564C-9648-4904-9FE0-E7D0C164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40A16-2E0B-484F-A490-61CD0337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81FD-6538-4B4D-BB45-29236BF8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A6756-15DB-4538-9435-2FCBFB73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C3620-F51D-42E1-81B8-08132A3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5CC05-9BA5-4B82-B150-4401CFF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FB9A-8D83-44C2-A270-10A09C90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9FCB-56AF-41BD-B9DA-72F03D4F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9144-0F67-4E69-AFC8-70ED9FB4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3651-B4FD-42B2-9727-C53CA8B4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776-5AC8-4CEA-A727-AEC4267C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6E08-C011-44E4-A012-E7C2B584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446F5-18D7-4872-A1AB-B8D88038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F3D3B-B5DC-4C39-B1A5-1AEC4544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21CE-66E6-40CF-85AC-8FA5611D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E6473-C751-4D6D-A44A-DFF44415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A5877-4D19-4E93-95A5-2F23335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F1A1-5707-40D7-9BEE-F90AF142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B9A72-9316-4BA9-A9BA-6C1FDC52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8A853-EFC1-41D4-94B3-F805F8EC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37775-36C1-4D33-AB12-6F46485A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413-21DF-46CE-8966-F7E70594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5A94-B2A9-4166-AA38-E06B5F1A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31CE1-78F7-4F08-AC33-307F2F70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A420A-38E4-46EF-A28A-FF822A19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D84A5-08B5-42EE-BD49-6AD2D9C5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B649-B50F-4228-8C84-ED76C00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7E77F-F96E-494F-9EFA-A80D27A8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18AB4-371A-48B0-B2D8-B0098E11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5660F-EB3A-4A7A-A2A0-1337B32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6CB71-2DBB-49C6-9565-2B06D57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62FF4-70D1-45B5-9A6E-2B4CB162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4086-5EBB-4166-AFFB-C5471C5E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A4D74-64B8-4650-B622-98CB996E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1BBFE-39FD-4403-9778-B7E3B4F4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1800D-AB08-4575-B3C9-8AC107E4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79270-0DF1-4264-8A3B-40F95988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EDA2-19F5-4217-95CC-D21E36D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8A22-768B-4EE3-96DB-F9944636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EE7C9-2D0E-4700-8697-0F29F337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FC680-F449-4F59-9F62-AB91ECC1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20567-BB20-419E-83BB-EDFE5B2B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BE9E3-B673-4B8B-BAE6-FEED06BA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5EE-F213-4441-8479-DBE35210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4B4EC-43E7-474F-9BB7-BC2DE7FB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44C50-814E-42F5-A8A0-4013B780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909BD-9303-45B5-929E-A9340A9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94477-00D8-42BC-A909-5F6EB62E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6C29C-950B-41CE-88AA-661026E4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AFB9E-E5E4-44F8-91E8-67974412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9252F-641A-48AD-8A4B-7E01A76C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054A4-1698-451D-BF58-0926E626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2E5B5-5D1A-4A92-B683-62909234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B4E89-7F7D-4CEE-904A-926ABFDE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A6B-2775-4B91-9E07-4BEB7C1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B7FFC-B92B-4825-BAAF-43A82249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0A703-43B4-46C6-A973-2DCFB49F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8C3A9-F8CA-4784-A130-274DF1AC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7FC54-1C34-4620-ADB0-195C1B9E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29CD9-03CF-47CF-8923-448136D5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FB7AC-35BA-40CF-9A8F-DC578F04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18C2B-C2B7-437A-BE8F-35D81BEE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B72A8-12D4-4380-AE8D-B73D8066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9C6D5-FB4C-4DEC-ADDF-6A00F9C5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568FA-1314-49BF-871E-F9718A7E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CD25-16EA-4833-AC78-E6072D67A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7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9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89A5-1236-41AE-85C2-7FC279A450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6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7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7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8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E8AB-8545-4FEF-B2DC-89A71ECBE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2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3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3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4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2C3F-207B-49A5-A6B5-6A8DD69DB2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203C-B38D-48C3-8BFB-8378431CB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80C0-C821-424D-9287-C3863779B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4630-8320-48D7-BF26-0D385F1F7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8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8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1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E556-2FFE-4528-9497-8D20D8C73F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5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4F8A-B901-4262-BE0B-C941D543178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3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4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4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485C-B988-449E-83FA-8130D478FA3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1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1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3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7284-5A9D-448D-AF5E-8285CB5CF83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8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8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0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7B09-CD18-4567-88F3-FE1ECEE192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Rutina De Tortug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42861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m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rial"/>
              </a:rPr>
              <a:t>ñana de tortug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 la m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ñana, la tortuga se desparte muy tarde. Se levante a las dos y media. Se lava en el mar. La Tortuga uso mucho champú y un barro de jabõ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 De Tortug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tortuga se desayuna a las tres y media. El come el pan tostado y el cereal y el jugo de naranja. Se desayuna un desayuno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2200320" cy="2962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a Tortuga Ponerse La Ropa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tortuga se pone la ropa. Se pone unos cortos y un camisa y un sombr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9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2555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 Tortuga Afeit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tortuga se afeita a las cuatro. El uso navaja y crema de afeitar. El se mire en espejo. La rutina de la tortuga es compl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Extrem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41:59Z</dcterms:created>
  <dc:creator>cunninghamjon</dc:creator>
  <dc:description/>
  <dc:language>en-US</dc:language>
  <cp:lastModifiedBy>cunninghamjon</cp:lastModifiedBy>
  <dcterms:modified xsi:type="dcterms:W3CDTF">2012-04-05T13:01:47Z</dcterms:modified>
  <cp:revision>4</cp:revision>
  <dc:subject/>
  <dc:title>La Rutina De Tortuga</dc:title>
</cp:coreProperties>
</file>